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9CD-528C-4168-B710-10B48621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8603-DA36-47A3-B075-E968046A9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0EA-6A90-41E8-B2F5-8A72DE13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F68-D694-42E7-A0C3-5BED006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345-A69C-41B4-89D2-1A39317C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E50-F5B0-48A4-AAAD-257C8C4C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2DD-669E-493E-958A-550688FA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924-3FC1-44BE-B469-F64ABC22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CAD-CFE7-4250-BBFC-FC30DE5D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E9B-21B9-4879-A6A0-E387F139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161-B1D8-4F9E-8110-6172F3CB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C13-F218-4543-ABCE-A7F13FF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FD5-1C51-4EA2-854F-6F3A6F0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848-8BC9-4825-A543-CB499B8E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0DD-17F0-4773-86E6-93BD4910762D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505320" y="3192480"/>
            <a:ext cx="502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planning f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646280" y="2209680"/>
            <a:ext cx="58672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reanatomy.tif"/>
          <p:cNvPicPr/>
          <p:nvPr/>
        </p:nvPicPr>
        <p:blipFill>
          <a:blip r:embed="rId1"/>
          <a:stretch/>
        </p:blipFill>
        <p:spPr>
          <a:xfrm>
            <a:off x="765000" y="3657600"/>
            <a:ext cx="763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8" name="Picture 5" descr="MPlangMem.tif"/>
          <p:cNvPicPr/>
          <p:nvPr/>
        </p:nvPicPr>
        <p:blipFill>
          <a:blip r:embed="rId1"/>
          <a:stretch/>
        </p:blipFill>
        <p:spPr>
          <a:xfrm>
            <a:off x="1106640" y="4172040"/>
            <a:ext cx="654192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anatomy3planes.tif"/>
          <p:cNvPicPr/>
          <p:nvPr/>
        </p:nvPicPr>
        <p:blipFill>
          <a:blip r:embed="rId2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3"/>
          <p:cNvCxnSpPr/>
          <p:nvPr/>
        </p:nvCxnSpPr>
        <p:spPr>
          <a:xfrm flipH="1">
            <a:off x="5092200" y="476100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 flipH="1">
            <a:off x="5149440" y="50101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 flipH="1">
            <a:off x="2725200" y="18763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3392640" y="1646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ars Triang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794560" y="4778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181320" y="4299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>
            <a:off x="2725200" y="4219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20"/>
          <p:cNvSpPr/>
          <p:nvPr/>
        </p:nvSpPr>
        <p:spPr>
          <a:xfrm>
            <a:off x="5785920" y="4325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udit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7" descr="MPanatomy3planes.tif"/>
          <p:cNvPicPr/>
          <p:nvPr/>
        </p:nvPicPr>
        <p:blipFill>
          <a:blip r:embed="rId1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75880" y="17892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MPMemlangHippo.tif"/>
          <p:cNvPicPr/>
          <p:nvPr/>
        </p:nvPicPr>
        <p:blipFill>
          <a:blip r:embed="rId2"/>
          <a:stretch/>
        </p:blipFill>
        <p:spPr>
          <a:xfrm>
            <a:off x="1066680" y="4219560"/>
            <a:ext cx="6832800" cy="2506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342000" y="4094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6"/>
          <p:cNvCxnSpPr/>
          <p:nvPr/>
        </p:nvCxnSpPr>
        <p:spPr>
          <a:xfrm>
            <a:off x="3200400" y="4876560"/>
            <a:ext cx="704160" cy="9435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6"/>
          <p:cNvCxnSpPr/>
          <p:nvPr/>
        </p:nvCxnSpPr>
        <p:spPr>
          <a:xfrm>
            <a:off x="3200400" y="2438280"/>
            <a:ext cx="704160" cy="943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>
            <a:off x="5028480" y="480852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Straight Arrow Connector 10"/>
          <p:cNvCxnSpPr/>
          <p:nvPr/>
        </p:nvCxnSpPr>
        <p:spPr>
          <a:xfrm flipH="1">
            <a:off x="5085720" y="505620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7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600200" y="6060960"/>
            <a:ext cx="67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8480" y="1643040"/>
            <a:ext cx="81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s/p resection of Grade IV 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blood products around surgical bed without enhanc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an the neuroradiologist help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876920" y="3929040"/>
            <a:ext cx="3429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90720" y="1633680"/>
            <a:ext cx="7207200" cy="499572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 flipV="1">
            <a:off x="2286000" y="46382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537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BV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39840" y="1676520"/>
            <a:ext cx="66848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Line 6"/>
          <p:cNvSpPr/>
          <p:nvPr/>
        </p:nvSpPr>
        <p:spPr>
          <a:xfrm flipV="1">
            <a:off x="2600280" y="464796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23Z</dcterms:modified>
  <cp:revision>81</cp:revision>
  <dc:subject/>
  <dc:title>PowerPoint Presentation</dc:title>
</cp:coreProperties>
</file>